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474-7363-496C-84EC-69691928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0AC-8824-4C20-83E5-E1AD6FF2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2A205-A3E8-44E1-BBDE-0E9F6B71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93693-04F9-4D11-B359-7060308E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7C4BC-4903-436E-950A-CCDB0348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0CBE9-EE9A-4A7F-A9F7-CF1520AD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FB45A-0627-4C96-AE79-6B439E27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20763-7C80-46D0-9D7C-AC7DDE71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00B9A-CAE0-4B1F-AF7A-448A93C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2FF60-BF54-4C6A-9370-8BF727DE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CA4D7-3473-4DBA-9D7D-F57403E3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396A1-4724-4557-B515-59E78EA8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876-DE97-4FAA-81A3-F59A6ABA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A21A5-5F2C-429A-BF71-60933CE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94716-3DB9-4518-81ED-3DA572C5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D4268-EDC9-46B4-93B2-B82332A0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5F1D7-7235-4264-9265-0245A3C3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44398-9E63-4C36-9ED9-F8E34B41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85946-8B47-4053-984E-0BA1BFEC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2C0F9-59E2-40DD-A309-F0BB69B4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5424F-9E25-45C9-99E1-43ACF35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533D9-5520-4797-9039-AACF6E5E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B0A1A-8D0D-4C36-AB3E-3BABAC44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F63-CBD2-42A1-A180-4D1651EA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1B0BE-978B-45B3-8A9F-0E896FA5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7647C-1716-4E09-89D7-D0162ECB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D474D-42FB-4C51-9C17-6082A80D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BC390-4AE9-44F9-A492-3AD2C4E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B90AE-D287-4F3A-ABCD-196AEA91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4386B-4C79-4CA5-8C44-09E32A8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577D5-8621-4BEA-BDBB-25718AE8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B0702-40F7-400B-A863-3536453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3B4A-5A6F-4C35-8855-7C4FE01E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FB903-7A74-4800-8FC9-191B7EB7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7F63-824E-4C62-BC3B-C5752F8D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B05E7-80C2-484D-9DE5-AC511B66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F1700-F802-48BC-BEF4-0C8DC93B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7CAAA-0973-474D-A2D3-F64387FF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FACB-9329-4742-B2F3-6FEFBE92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1E23-B094-475B-9CB9-1F49CC88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0544-459B-4341-BE81-7857EF66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5626-56EC-42BE-9C2F-E716068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76DD-9F7A-4A7C-9DD2-79AE5FD4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525C-C252-4CCE-ACDA-7243E199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007-9C80-4DCD-8A46-40AE55A9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D9EE-B34C-4515-A8A5-FA5A27DD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E676-52DB-477C-8506-7973A0E4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C0DD-DD1A-4A45-AF2D-8CEA7FF6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5204-3893-466C-A766-45BD195B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5745-3F89-4316-8BBB-B7477A58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AAD7-C83D-4127-A54B-03AB4D25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C7D9-43E1-4CFC-BB8A-90B152BF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87F5-70A2-416F-BF44-4265AFC3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8CD5-25AE-4D55-906B-373185FA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C7DB-D831-408C-A714-05517296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A0A-B7E4-48B3-B5FE-FD55F5D1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DE2F-4FB8-455D-9224-290BE187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E867-615B-4D55-A47C-3B4C1229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E828-C41E-4EC6-8E16-6CF9C5C3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A0F6-D00A-4886-9831-520540D3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9B26-B428-4F98-957E-AF3A617B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92CA-BD44-4BF8-B148-250FEBBA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D79C-57B2-45F5-8DD3-3C34B4CA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1316-7036-4A30-A552-3B93113D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D36AC-0BB4-4769-9753-A858C609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B9CA6-DF0B-4B51-A4C7-068272EA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DF0-D170-4FB1-8EA6-810DF9C9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C4D4-9821-4C80-A96D-FFCF3F2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FE94-3C01-42DA-9C6C-F322134A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C9AC-E2DC-4793-9703-56C93380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A10C-3CAB-4861-8191-85C17D4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6DA2-CC22-4466-9EE7-330A938E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27CD-F32C-442B-9212-0444D2F2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4EDEB-1A32-4907-8F3B-EA7ADD4A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11AE0-F306-48CD-B9C8-3101724A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F579D-0D60-4EE6-87FF-8C105C0F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885F9-07FB-4921-974A-2AB193DF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6FD-D4B1-43B6-9B24-31AA0BBA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9261-9C94-4144-8C1D-ED7450BC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480B-3E94-464B-B3C5-2F55542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33302-1619-4C1C-883F-1EBEB0B0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61C1-06C0-41E6-85B2-4AA897E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A3FC2-9DAA-4A7F-9D32-E36951F9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1FA7-19A5-4848-8115-189A2D9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FA881-C558-4EB4-8E2F-5AADC6F4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95AD9-9BFC-4712-9DF8-E619BFE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6057-9AE0-4EEB-90DE-BF89695C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21A7-2575-4D32-A037-8D03D971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1D3-3705-4F94-B958-062CBC00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8CBC-1AE7-42A5-94D1-B2868727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AF102-2AD9-4AA4-B02B-61D4863D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331BA-B546-4966-93DF-F0F270EE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8E5E9-E5AC-49C8-91A1-AC09CC3E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328C2-2BEF-40C8-B7C7-860A1A91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13665-F2C2-4EC3-B2D5-C62AB8A0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56F7F-0AC4-40F4-AAD7-B7A81019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01D31-662E-4DBD-8A7A-82BB224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C6DC2-D579-4D6C-B268-B74835A6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1AD3-DF98-4183-ABA7-DFB046CD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F9E-AA49-431B-86DC-A41BE99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E86FE-C4A7-46DE-B0BF-3E4B1DB9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6ABF6-A076-4F55-90E7-3C64A341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0AE44-6DA7-492E-848C-EFCD4A79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815FF-36A9-4B4C-BDBD-C5A7DA64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9B761-2050-4EFE-B359-77491C81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6AEE1-283D-41FC-A48D-B8395472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D99A4-AEDA-4CD8-A46E-2137439A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98BBC-3B75-41B7-AFF3-5DB56D27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A0AD7-E174-416F-917E-0C3BBA6F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FBE1-6FB6-487D-B793-E597BF6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6C4-11D1-4C36-AC73-9CB02CF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C5E98-8C42-41F7-92CA-95FD356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295F7-4D91-4C13-B827-F0798BB5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0400F-7DA8-4A2E-8D90-7A3B4CAE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40AF7-82B6-49CF-A889-E97BF593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7619-4740-44CC-AAC7-C8F6215A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54070-91A2-40D1-91FC-45BB5FB0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208D1-F1F9-4FE6-B0B6-9EF09B24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3E919-E7A9-4B2A-B9B7-4EB1BD9A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63EA-7318-4D01-B489-4BD9E6C2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0F051-8D1B-4FB1-BDCD-221DA5A4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EB6-1EB4-45D9-BD18-F2B767A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64148-9431-4642-8684-55C7A2AE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27C86-A597-4AA9-BC80-EE337B66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E1155-A0AF-445C-8F75-F9217236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D7EEC-CCFC-4871-B15D-019AA8F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39D39-44B9-48A9-A50C-FF41C58F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BB12-E4DF-4D05-847C-544F8DDD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D1B64-1E92-4562-B05B-B5AD0194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162EF-04D1-43F3-85D3-24F9983B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3DEE4-E0D7-47A1-A9B4-B2062D91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EADA7-D92D-45A0-AC35-04E9158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F8CB-5BF0-4954-B109-3794728F5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A5FA-511E-4BAB-AB22-51ACDF239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KEN GHOS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7651-3C0F-4F75-9E54-3F2C05628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9B21-5816-4883-A1A2-495BC8D7A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69E1-3695-41B0-A476-C1872BBC5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53C4-2791-4CFC-87BC-850D9D4B6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773-4F00-4BA8-A4FC-D86B020CA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E48-2331-4479-AD87-54FA2F31A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20F-CAEF-4A21-8DBC-B706710B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2270-5118-49C6-92A3-7CA0CADBB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AD92-8C8A-41B0-BA3B-BEF84ABCD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KEN GHOST"/>
              </a:rPr>
              <a:t>3.2: Quadratic Equations and Problem Solving</a:t>
            </a:r>
            <a:endParaRPr b="0" lang="en-US" sz="48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basic concepts about quadratic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ctoring, complete the square, and the quadratic formula to solve quadratic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discrimin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problems involving the quadratic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What is a quadratic equation?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olve for x, what are you finding on the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=0, aka the x-inter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793960" cy="286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Solving by factoring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into the form (x+m)(x+n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+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KEN GHOST"/>
              </a:rPr>
              <a:t>Using the square root [property</a:t>
            </a:r>
            <a:endParaRPr b="0" lang="en-US" sz="40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k, square root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Completing the square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-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+4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The quadratic formula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b ± √b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4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-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The discriminant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criminan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 &gt;0, there are two re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 = 0, there is one real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 &lt;0, there are NO re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8:06:15Z</dcterms:created>
  <dc:creator>nuhs</dc:creator>
  <dc:description/>
  <dc:language>en-US</dc:language>
  <cp:lastModifiedBy>nuhs</cp:lastModifiedBy>
  <dcterms:modified xsi:type="dcterms:W3CDTF">2008-01-25T21:24:34Z</dcterms:modified>
  <cp:revision>5</cp:revision>
  <dc:subject/>
  <dc:title>3.2: Quadratic Equations and Problem Solving</dc:title>
</cp:coreProperties>
</file>